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42FB-4306-426D-A377-7593E738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B8AA-A9F8-4DD3-8BDE-745BE1C4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4DB9-884F-45BA-AE53-AD158D9A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EFCB-1D57-4A62-981F-AF6C3823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A897-230F-4A1F-8B86-7B0A5E46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8146-278D-4F99-BDDD-DBDAC176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BA30-7239-44FD-9A5E-0EF27D0D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3659-8309-42F6-B19B-E6D2EA8E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9ABF-98B2-4A85-97F8-B9E42595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DCEF-2681-4B54-BCFE-E33FF877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27A2-F22B-4841-976C-6E0860C9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6A83-1488-4E8E-A6BD-C3B87A6C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BC2D-026F-4A92-B7E4-1CA753CB0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reed.edu/cis/about/ipad_pilot/ipad_large"/>
          <p:cNvPicPr/>
          <p:nvPr/>
        </p:nvPicPr>
        <p:blipFill>
          <a:blip r:embed="rId1"/>
          <a:stretch/>
        </p:blipFill>
        <p:spPr>
          <a:xfrm>
            <a:off x="0" y="1523880"/>
            <a:ext cx="9155160" cy="5334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lackadder ITC"/>
              </a:rPr>
              <a:t>Apple iPad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971800" y="2133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By Jessica Y.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hiller"/>
              </a:rPr>
              <a:t>NEED</a:t>
            </a:r>
            <a:br>
              <a:rPr sz="4000"/>
            </a:br>
            <a:r>
              <a:rPr b="0" i="1" lang="en-US" sz="2500" spc="-1" strike="noStrike">
                <a:solidFill>
                  <a:srgbClr val="000000"/>
                </a:solidFill>
                <a:latin typeface="Chiller"/>
              </a:rPr>
              <a:t>What problem or need existed that gave rise to your innovation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#1 -To keep the company (Apple) at the forefront of the computer manufacturing indu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#2 - To be used in a variety of areas to offer an all-in-one package for connectivity, computing, gaming, and any other task you might think of” (Kessler, 2010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#3 - To replace the netbook and lap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ackadder ITC"/>
              </a:rPr>
              <a:t>To support Point #1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img.timeinc.net/time/photoessays/2010/ipad_launch/ipad_01.jpg"/>
          <p:cNvPicPr/>
          <p:nvPr/>
        </p:nvPicPr>
        <p:blipFill>
          <a:blip r:embed="rId1"/>
          <a:stretch/>
        </p:blipFill>
        <p:spPr>
          <a:xfrm>
            <a:off x="3381480" y="3048120"/>
            <a:ext cx="5762520" cy="3809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76320" y="1143000"/>
            <a:ext cx="487656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hiller"/>
              </a:rPr>
              <a:t>Kessler (2010) says “The majority of Apple's advancements have seen a number of imitations crop up from other manufacturers, but Apple's solid implementations have keep them ahead of the game.”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225540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fore the iPad, there had been numerous attempts at developing the next “smaller and lighter” produ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hiller"/>
              </a:rPr>
              <a:t>RESEARCH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hiller"/>
              </a:rPr>
              <a:t>What research organization or people developed a solution to this problem or need? What were their findings? Who were the “lead thinkers” for this innovation, and how did they convince a manufacturer to produce it?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80880" y="4227480"/>
            <a:ext cx="8305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th the iPad, Apple “attempts to blend all the recent advancements in modern computing into one product” (Kessler, 2010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hiller"/>
              </a:rPr>
              <a:t>DEVELOPMENT</a:t>
            </a:r>
            <a:br>
              <a:rPr sz="4000"/>
            </a:br>
            <a:r>
              <a:rPr b="0" i="1" lang="en-US" sz="2500" spc="-1" strike="noStrike">
                <a:solidFill>
                  <a:srgbClr val="000000"/>
                </a:solidFill>
                <a:latin typeface="Chiller"/>
              </a:rPr>
              <a:t>What problems did your innovation encounter in the development process? Who was the intended audience for your innovation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114440" y="2057400"/>
            <a:ext cx="4876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Every one of all ages are the intended target audience for the Apple iPad, as it has the capability to offer something for everyon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onsider these audienc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person who rarely uses a computer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person who are absolutely into gadgets and new technologies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book reader owners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Phone and iPod Touch users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c ow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www.itechgirl.com/wp-content/uploads/2011/03/Netflix-for-iPad.jpg"/>
          <p:cNvPicPr/>
          <p:nvPr/>
        </p:nvPicPr>
        <p:blipFill>
          <a:blip r:embed="rId1"/>
          <a:stretch/>
        </p:blipFill>
        <p:spPr>
          <a:xfrm>
            <a:off x="122400" y="2257560"/>
            <a:ext cx="39160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hiller"/>
              </a:rPr>
              <a:t>COMMERCIALIZATION</a:t>
            </a:r>
            <a:br>
              <a:rPr sz="4000"/>
            </a:br>
            <a:r>
              <a:rPr b="0" i="1" lang="en-US" sz="2500" spc="-1" strike="noStrike">
                <a:solidFill>
                  <a:srgbClr val="000000"/>
                </a:solidFill>
                <a:latin typeface="Chiller"/>
              </a:rPr>
              <a:t>Describe the production, manufacturing, packaging, marketing, and distribution of your innova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02680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ormation from IHS iSuppli, a market research fir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380880" y="3586320"/>
            <a:ext cx="8458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Pad 2 Breakdown Estimates, according to All Things Digital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reless Baseband Chi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26.8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l (AT&amp;T) and Qualcomm (Verizon) A5 Processor Chi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14.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msung Touch-screen Displa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127.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G Flash and DRAM Memor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65.7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shiba Gyroscope and Acceleromet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29.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Microelectronic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Estimated breakdown cost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$262.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Where Can You Purchase an iPa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pple.co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st Bu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alM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arge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erizon Wirel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T&amp;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www.applerepo.com/wp-content/uploads/ipad3.jpg"/>
          <p:cNvPicPr/>
          <p:nvPr/>
        </p:nvPicPr>
        <p:blipFill>
          <a:blip r:embed="rId1"/>
          <a:stretch/>
        </p:blipFill>
        <p:spPr>
          <a:xfrm>
            <a:off x="3505320" y="1447920"/>
            <a:ext cx="559584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ller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erson, B. (2010). 14 problems with apple's ipad leading to failure. Retrieved October 5, 2011 fro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http://www.infernodevelopment.com/14-problems-apples-ipad-leading-failu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ad 2 teardown: Where the parts come from; how much they’re worth. (n.d.). Retrieved October 5, 2011 fro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http://wickedsago.blogspot.com/2011/03/ipad-2-teardown-where-parts-come-from.htm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ssler, T. (2010). Apple's latest creation: It's an ipad! Retrieved October 5, 2011 fro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http://reviews.cnet.com/8301-13727_7-10442722-263.htm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ite, K. (2011). The unveiling of apple's ipad tablet. Retrieved October 5, 2011 fro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http://www.time.com/time/photogallery/0,29307,1957124_2029812,00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4:55:24Z</dcterms:created>
  <dc:creator>Lady J</dc:creator>
  <dc:description/>
  <dc:language>en-US</dc:language>
  <cp:lastModifiedBy>Lady J</cp:lastModifiedBy>
  <dcterms:modified xsi:type="dcterms:W3CDTF">2011-10-06T15:19:37Z</dcterms:modified>
  <cp:revision>1</cp:revision>
  <dc:subject/>
  <dc:title>Apple iPad</dc:title>
</cp:coreProperties>
</file>